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DFDA-0FC4-424C-9297-FC0217492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9152-7008-4C40-8FE1-40B74C979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550F-D5AD-4D0C-BE65-3F8974DF1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FB0F-8D97-4D3A-BF56-DBAB0861A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E60A7-F232-493B-B334-F53001196D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E86A9-687A-44EE-BED4-FE5C0D741C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E2C53-E721-4EDB-97CC-217876F3FE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349DC-37DC-4E75-AA6F-CD609C39B9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7F743-DFAB-4F04-BC9F-9B72174BE5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46E88-7F28-428D-99BA-E6074BF243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71787-EC0F-4C5B-867A-068D62BD90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4C65-F9AF-49EB-8DB1-1AFD9753C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FEE57-138D-45EA-A3D3-AB2125E04B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AEBD8-003A-465D-BAD5-C1AE91FFA2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AEE5F-8401-46A1-89FD-393B0F14B3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F4C67-64E5-4203-A2F4-9A2222C61A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ADCF8-913C-46D0-9F55-9AE42022E9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75DC-6BB2-4019-BA38-C7A60DFCD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C6A0B-CCAC-4D6B-9608-110B09574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DA70-24D2-4834-907D-AADEE0166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0CAE-618C-499F-82F7-6007ED7D8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1478-DBA3-4009-9AC1-68809EBAA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99B8-DC8A-4D6E-A31E-3DF671EE3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3A05-F3B2-4DDF-A0E9-A59756158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3517D8E-0976-4EA3-BE0D-463E97440CE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07CC803-DD65-4A0C-868D-5445745F36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78B9925-B6EB-4FF3-9162-1CA4A16DFA9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1A9BCDD-FCE0-4FBA-8F68-E1DB2117786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hyperlink" Target="http://imaging.mrc-cbu.cam.ac.uk/statswiki/FAQ/Doncaster" TargetMode="External"/><Relationship Id="rId3" Type="http://schemas.openxmlformats.org/officeDocument/2006/relationships/hyperlink" Target="http://www.albany.edu/faculty/rfh64/power/power.html" TargetMode="External"/><Relationship Id="rId4" Type="http://schemas.openxmlformats.org/officeDocument/2006/relationships/hyperlink" Target="http://www.aprendelo.com/rec/power-calculato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maging.mrc-cbu.cam.ac.uk/statswiki/FAQ/Doncast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www.albany.edu/faculty/rfh64/power/powe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2-06-28T14:17:07Z</dcterms:modified>
  <cp:revision>221</cp:revision>
  <dc:subject/>
  <dc:title>8: SAMPLE SIZE DETERMINATION</dc:title>
</cp:coreProperties>
</file>